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BC3-AE2A-4CEE-BE82-B49A38EF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B96-2F04-4FD7-9690-E51B93B5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E11-1B7A-4767-93FE-40F0C408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70E-D79A-4724-9328-6DE765BC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CF8-B2AD-4933-81C8-567F6E32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222-AE45-4C00-8199-7CCDD458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E05-FEBE-4C67-A5A9-D1927586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B35-EE8D-476F-8D46-A204A3C5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971-8600-40A9-8035-9B4F7E7B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99A-56FB-4551-8838-DCE365EA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5B8-7B1A-4C16-A432-40755C30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34B-9376-4536-966F-583C3E9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C0A0-D99D-44A1-9AFD-A7FBD4D2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2514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4343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0"/>
            <a:endCxn id="42" idx="6"/>
          </p:cNvCxnSpPr>
          <p:nvPr/>
        </p:nvCxnSpPr>
        <p:spPr>
          <a:xfrm flipV="1" rot="16200000">
            <a:off x="2971800" y="13716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048840" y="1447920"/>
            <a:ext cx="86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wor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3"/>
            <a:endCxn id="43" idx="2"/>
          </p:cNvCxnSpPr>
          <p:nvPr/>
        </p:nvCxnSpPr>
        <p:spPr>
          <a:xfrm flipV="1" rot="10800000">
            <a:off x="3657600" y="3295080"/>
            <a:ext cx="134280" cy="1505880"/>
          </a:xfrm>
          <a:prstGeom prst="curvedConnector3">
            <a:avLst>
              <a:gd name="adj1" fmla="val 1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0"/>
            <a:endCxn id="44" idx="2"/>
          </p:cNvCxnSpPr>
          <p:nvPr/>
        </p:nvCxnSpPr>
        <p:spPr>
          <a:xfrm flipH="1" flipV="1" rot="5400000">
            <a:off x="4381560" y="13334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666520" y="3809880"/>
            <a:ext cx="836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long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480" y="1447920"/>
            <a:ext cx="88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shor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4"/>
            <a:endCxn id="41" idx="2"/>
          </p:cNvCxnSpPr>
          <p:nvPr/>
        </p:nvCxnSpPr>
        <p:spPr>
          <a:xfrm flipH="1" rot="16200000">
            <a:off x="2514600" y="18288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981080" y="2666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3" idx="6"/>
            <a:endCxn id="41" idx="5"/>
          </p:cNvCxnSpPr>
          <p:nvPr/>
        </p:nvCxnSpPr>
        <p:spPr>
          <a:xfrm flipH="1" flipV="1">
            <a:off x="4438080" y="3295080"/>
            <a:ext cx="134280" cy="1505880"/>
          </a:xfrm>
          <a:prstGeom prst="curvedConnector3">
            <a:avLst>
              <a:gd name="adj1" fmla="val -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709880" y="3809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4" idx="4"/>
            <a:endCxn id="41" idx="6"/>
          </p:cNvCxnSpPr>
          <p:nvPr/>
        </p:nvCxnSpPr>
        <p:spPr>
          <a:xfrm rot="5400000">
            <a:off x="4838760" y="17906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257800" y="274320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8440"/>
          <a:ext cx="8229600" cy="680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440"/>
                    <a:ext cx="8229600" cy="68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55:57Z</dcterms:created>
  <dc:creator>David Chassin</dc:creator>
  <dc:description/>
  <dc:language>en-US</dc:language>
  <cp:lastModifiedBy>David Chassin</cp:lastModifiedBy>
  <dcterms:modified xsi:type="dcterms:W3CDTF">2008-12-15T20:03:31Z</dcterms:modified>
  <cp:revision>3</cp:revision>
  <dc:subject/>
  <dc:title>Slide 1</dc:title>
</cp:coreProperties>
</file>