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2CE-674F-4004-9D49-7F79F49F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BA6-F3FF-4732-B9CC-4C629F8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5AE-31D0-49C5-9416-10B6625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C5B-0B8D-4736-9852-FDBC4ED8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606-DA2B-4DCA-BF02-C2E02AEC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D6B-EF58-45B7-8735-40C0957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988-1474-4A0E-AAA9-8690241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F4F-D121-4F58-B651-12D4D74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DF5-12E6-4E06-BF9B-3E08047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EE7-6E47-4C39-BB7A-3F3D3C5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375-28BF-4208-9514-A3959E3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6D1-6903-4AD6-B3D7-4DDA8EA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4FF-D455-432E-8D99-BC783B68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2514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34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0"/>
            <a:endCxn id="42" idx="6"/>
          </p:cNvCxnSpPr>
          <p:nvPr/>
        </p:nvCxnSpPr>
        <p:spPr>
          <a:xfrm flipV="1" rot="16200000">
            <a:off x="2971800" y="13716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048840" y="1447920"/>
            <a:ext cx="86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wor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3"/>
            <a:endCxn id="43" idx="2"/>
          </p:cNvCxnSpPr>
          <p:nvPr/>
        </p:nvCxnSpPr>
        <p:spPr>
          <a:xfrm flipV="1" rot="10800000">
            <a:off x="3657600" y="3295080"/>
            <a:ext cx="134280" cy="1505880"/>
          </a:xfrm>
          <a:prstGeom prst="curvedConnector3">
            <a:avLst>
              <a:gd name="adj1" fmla="val 1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0"/>
            <a:endCxn id="44" idx="2"/>
          </p:cNvCxnSpPr>
          <p:nvPr/>
        </p:nvCxnSpPr>
        <p:spPr>
          <a:xfrm flipH="1" flipV="1" rot="5400000">
            <a:off x="4381560" y="13334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666520" y="3809880"/>
            <a:ext cx="836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long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480" y="1447920"/>
            <a:ext cx="88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shor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4"/>
            <a:endCxn id="41" idx="2"/>
          </p:cNvCxnSpPr>
          <p:nvPr/>
        </p:nvCxnSpPr>
        <p:spPr>
          <a:xfrm flipH="1" rot="16200000">
            <a:off x="2514600" y="18288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981080" y="2666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3" idx="6"/>
            <a:endCxn id="41" idx="5"/>
          </p:cNvCxnSpPr>
          <p:nvPr/>
        </p:nvCxnSpPr>
        <p:spPr>
          <a:xfrm flipH="1" flipV="1">
            <a:off x="4438080" y="3295080"/>
            <a:ext cx="134280" cy="1505880"/>
          </a:xfrm>
          <a:prstGeom prst="curvedConnector3">
            <a:avLst>
              <a:gd name="adj1" fmla="val -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709880" y="3809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4"/>
            <a:endCxn id="41" idx="6"/>
          </p:cNvCxnSpPr>
          <p:nvPr/>
        </p:nvCxnSpPr>
        <p:spPr>
          <a:xfrm rot="5400000">
            <a:off x="4838760" y="17906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57800" y="274320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8440"/>
          <a:ext cx="8229600" cy="680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440"/>
                    <a:ext cx="822960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55:57Z</dcterms:created>
  <dc:creator>David Chassin</dc:creator>
  <dc:description/>
  <dc:language>en-US</dc:language>
  <cp:lastModifiedBy>David Chassin</cp:lastModifiedBy>
  <dcterms:modified xsi:type="dcterms:W3CDTF">2008-12-15T20:03:31Z</dcterms:modified>
  <cp:revision>3</cp:revision>
  <dc:subject/>
  <dc:title>Slide 1</dc:title>
</cp:coreProperties>
</file>